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708-B8AF-4F51-9EA2-8FDF4713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520-94C1-4C0A-8133-75768DF7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783-E21B-45A1-9C94-43EBEF81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87B-C43F-4B55-B3FE-F6BF9748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391B-B0E3-4530-ABD3-D870E159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FD74-A399-45BE-96AF-2F7FF677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D648-8269-4697-8E56-01787858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A316-946C-4B50-8514-23E6A729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FFC2-FB0F-4E35-BE48-5C91394E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C044-3A06-4A38-8AF4-3A4879EF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9DC7-4E0A-4712-8EB2-4DD87CC5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D49-462B-46E1-A986-6E1490C9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8C2C-87A6-464E-ADDA-EE92BAF1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6B3D-9529-4A3C-944B-26BA29E4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5732-EA00-4AFE-9A4B-F36AE56C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4D0A-C723-4145-9E09-855E9010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0010-62F5-4C98-B285-D519AF9B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0FA7-2EFF-4984-A514-381669FC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704A-43C6-4B26-B2EF-7E784201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7C69-F4C6-432B-BABE-ABCAAD87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2C3A-27A2-4F4E-B06D-F545A06C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F274-03B3-4853-A8B3-0199DB99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634-B324-4183-999F-7F7775D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AA3F-F569-4F25-893C-22520781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D03E-3CCC-4A48-A850-D2CB190C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604EE-9BFE-4BE2-A6E0-969A89A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C071-BAB9-40E7-9B27-37EED93F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5DF2-C73A-4D26-895A-945E9F20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E735-B19A-414D-83F1-57C6E5B7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63D7-C9D1-4104-8A20-31FABCC2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B131-F610-4DB1-8488-02CEE939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90617-D61B-4A2D-9441-2EF50B78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3338-6D1F-41F1-ADC9-D73D6C26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946-9CB3-4AAD-BB10-880220A8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1631-25AD-4A24-959B-199ABC9E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75768-2F1E-4EBD-AD8E-48EA74F5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4A1D-C75A-4BC9-BB22-30FC3DC0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CB93-E62B-4A2C-96CB-D73E0A85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A3C3-858F-474B-8856-9A30B9DB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753AC-80DE-4487-82E3-737C11CA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D564-2E1C-4A6E-8126-B68D3928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84B6-85F5-4F75-A582-B8CC8A30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681C2-D0B7-446E-9D4D-200DD068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7D8-9ABB-4D58-B413-2B7B3860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C22-BE57-41CF-AAD5-BF88EC44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3ED-D4B8-404C-9407-DCAF11F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CDB-78A4-4F3C-A066-92DD023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E0C-F76C-4626-B338-D586954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6441-1AA6-4C26-8FF8-60B7AEAAA6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EC4E-0E6F-4BED-A3E4-EB01FA9E0E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DCAC-3E73-4427-91CA-A818412A9B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3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AF39-77D5-4F68-940E-B2CCCC036C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do we use the polyboar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3924000"/>
            <a:ext cx="81532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y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Dawna Vanderpool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Dan Snyd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Imprint MT Shadow"/>
              </a:rPr>
              <a:t>What do I do when this shows up in my room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on laptop, which is connected to the boa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remote, turn projector on. (May take a while to start up first thing in the morn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552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Now I need to Calibrate my bo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left hand side of your board, hit pro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screen appears and you will touch the 4 corners of the screen.  (Once you get the hand of this, you may want to make it 16 points for a more accurate board.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w you are ready to use your polyvision boar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orte"/>
              </a:rPr>
              <a:t>What can I use my polyvision board fo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larged text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ma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gle Ea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ve review g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point less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3924360"/>
            <a:ext cx="6934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What are some of the features of the Polyvision boar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Different colored markers (for writing, underlining or highlighting.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Can erase mistak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Can use a black screen to cover material for later u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Questions?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The easiest way to learn how to work with your Polyvision board is to just tinker with it in your spare tim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2:39:08Z</dcterms:created>
  <dc:creator>dansnyder</dc:creator>
  <dc:description/>
  <dc:language>en-US</dc:language>
  <cp:lastModifiedBy>dansnyder</cp:lastModifiedBy>
  <dcterms:modified xsi:type="dcterms:W3CDTF">2009-08-26T03:15:50Z</dcterms:modified>
  <cp:revision>2</cp:revision>
  <dc:subject/>
  <dc:title>How do we use the polyboard?</dc:title>
</cp:coreProperties>
</file>